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jeop.wav" ContentType="audio/x-wav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F2FF-C59D-4044-9351-F8BBBC0EF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1378-75CC-4D3B-A0EF-C292A4069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63CF-AD56-4626-96E7-DA347D816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25CC-6CF2-4E9A-B8BF-08C41CC48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80C3C-329B-4BDF-9ECD-A5D7BBD8C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024E2-9BBA-496E-B63E-679D65E6A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D2C67-5A3C-48B6-B1EB-5F1D36559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0DBA6-E490-4764-A9BF-B05DBA1EF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D922A-EC8C-476F-BF08-E0809D28C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AD7AA-8B5D-4C07-AA7A-8A153AE78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58184-CFA2-48E4-9C70-8B9A4F96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2031-2E2B-4290-BAB8-9E6F8A8DA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DFA2D-9A59-4947-AB03-94BB878A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052A1-1951-4044-85C8-15AC00AF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AEFE9-8938-4B5D-9238-607660FED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18ED6-9B0F-44BD-AF42-F1CF8FF11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91AF3-8228-48C4-9AAF-2D49EAC39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57CB-C13D-40B9-AA69-07155253C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BC94-655A-437E-AD80-41DB8F942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D883-9FFE-4120-B6C8-E7C393355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F2F9-B2C1-45BE-947E-9CD53A559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FFE8-B641-4D5B-8CBF-092EB73B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65AE-E707-4AED-97D2-BE0D4D47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F15B-15F4-4AE0-80A1-E718F6F4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>
              <a:gd name="textAreaLeft" fmla="*/ 0 w 8164440"/>
              <a:gd name="textAreaRight" fmla="*/ 8164800 w 8164440"/>
              <a:gd name="textAreaTop" fmla="*/ 0 h 3019680"/>
              <a:gd name="textAreaBottom" fmla="*/ 3020040 h 3019680"/>
            </a:gdLst>
            <a:ahLst/>
            <a:rect l="textAreaLeft" t="textAreaTop" r="textAreaRight" b="textAreaBottom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3691080"/>
              <a:gd name="textAreaBottom" fmla="*/ 3691440 h 3691080"/>
            </a:gdLst>
            <a:ahLst/>
            <a:rect l="textAreaLeft" t="textAreaTop" r="textAreaRight" b="textAreaBottom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497320"/>
              <a:gd name="textAreaBottom" fmla="*/ 2497680 h 2497320"/>
            </a:gdLst>
            <a:ahLst/>
            <a:rect l="textAreaLeft" t="textAreaTop" r="textAreaRight" b="textAreaBottom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539720"/>
              <a:gd name="textAreaBottom" fmla="*/ 1540080 h 1539720"/>
            </a:gdLst>
            <a:ahLst/>
            <a:rect l="textAreaLeft" t="textAreaTop" r="textAreaRight" b="textAreaBottom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>
              <a:gd name="textAreaLeft" fmla="*/ 0 w 8388360"/>
              <a:gd name="textAreaRight" fmla="*/ 8388720 w 8388360"/>
              <a:gd name="textAreaTop" fmla="*/ 0 h 1068120"/>
              <a:gd name="textAreaBottom" fmla="*/ 1068480 h 1068120"/>
            </a:gdLst>
            <a:ahLst/>
            <a:rect l="textAreaLeft" t="textAreaTop" r="textAreaRight" b="textAreaBottom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>
              <a:gd name="textAreaLeft" fmla="*/ 0 w 4578480"/>
              <a:gd name="textAreaRight" fmla="*/ 4578840 w 457848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60C89-DF31-43DD-81B8-4743E59D51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>
              <a:gd name="textAreaLeft" fmla="*/ 0 w 8164440"/>
              <a:gd name="textAreaRight" fmla="*/ 8164800 w 8164440"/>
              <a:gd name="textAreaTop" fmla="*/ 0 h 3019680"/>
              <a:gd name="textAreaBottom" fmla="*/ 3020040 h 3019680"/>
            </a:gdLst>
            <a:ahLst/>
            <a:rect l="textAreaLeft" t="textAreaTop" r="textAreaRight" b="textAreaBottom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3691080"/>
              <a:gd name="textAreaBottom" fmla="*/ 3691440 h 3691080"/>
            </a:gdLst>
            <a:ahLst/>
            <a:rect l="textAreaLeft" t="textAreaTop" r="textAreaRight" b="textAreaBottom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497320"/>
              <a:gd name="textAreaBottom" fmla="*/ 2497680 h 2497320"/>
            </a:gdLst>
            <a:ahLst/>
            <a:rect l="textAreaLeft" t="textAreaTop" r="textAreaRight" b="textAreaBottom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539720"/>
              <a:gd name="textAreaBottom" fmla="*/ 1540080 h 1539720"/>
            </a:gdLst>
            <a:ahLst/>
            <a:rect l="textAreaLeft" t="textAreaTop" r="textAreaRight" b="textAreaBottom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>
              <a:gd name="textAreaLeft" fmla="*/ 0 w 8388360"/>
              <a:gd name="textAreaRight" fmla="*/ 8388720 w 8388360"/>
              <a:gd name="textAreaTop" fmla="*/ 0 h 1068120"/>
              <a:gd name="textAreaBottom" fmla="*/ 1068480 h 1068120"/>
            </a:gdLst>
            <a:ahLst/>
            <a:rect l="textAreaLeft" t="textAreaTop" r="textAreaRight" b="textAreaBottom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>
              <a:gd name="textAreaLeft" fmla="*/ 0 w 4578480"/>
              <a:gd name="textAreaRight" fmla="*/ 4578840 w 457848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3243E-4CB8-4807-B1CC-BFFD816ACF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4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23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24.xml"/><Relationship Id="rId20" Type="http://schemas.openxmlformats.org/officeDocument/2006/relationships/slide" Target="slide18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25.xml"/><Relationship Id="rId24" Type="http://schemas.openxmlformats.org/officeDocument/2006/relationships/slide" Target="slide20.xml"/><Relationship Id="rId25" Type="http://schemas.openxmlformats.org/officeDocument/2006/relationships/slide" Target="slide30.xml"/><Relationship Id="rId26" Type="http://schemas.openxmlformats.org/officeDocument/2006/relationships/slide" Target="slide40.xml"/><Relationship Id="rId27" Type="http://schemas.openxmlformats.org/officeDocument/2006/relationships/slide" Target="slide26.xml"/><Relationship Id="rId28" Type="http://schemas.openxmlformats.org/officeDocument/2006/relationships/slide" Target="slide44.xml"/><Relationship Id="rId29" Type="http://schemas.openxmlformats.org/officeDocument/2006/relationships/audio" Target="../media/jeop.wav"/><Relationship Id="rId3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Jeopardy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1" name="Object 3"/>
          <p:cNvGraphicFramePr/>
          <p:nvPr/>
        </p:nvGraphicFramePr>
        <p:xfrm>
          <a:off x="762120" y="1533600"/>
          <a:ext cx="7775280" cy="463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33600"/>
                    <a:ext cx="777528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 Box 4"/>
          <p:cNvSpPr/>
          <p:nvPr/>
        </p:nvSpPr>
        <p:spPr>
          <a:xfrm>
            <a:off x="986400" y="1523880"/>
            <a:ext cx="12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tami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2362320" y="152388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Vitam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6-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3886200" y="1523880"/>
            <a:ext cx="124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tamin11-15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5482080" y="1523880"/>
            <a:ext cx="12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tami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-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079760" y="1523880"/>
            <a:ext cx="13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tami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900000" y="3241800"/>
            <a:ext cx="12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18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20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22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23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24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25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26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27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28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29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30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31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33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34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47"/>
          <p:cNvSpPr/>
          <p:nvPr/>
        </p:nvSpPr>
        <p:spPr>
          <a:xfrm>
            <a:off x="6770160" y="6324480"/>
            <a:ext cx="198684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8" action="ppaction://hlinksldjump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1-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1924560" y="3168720"/>
            <a:ext cx="6449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name for this symbol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amp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1-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4"/>
          <p:cNvSpPr/>
          <p:nvPr/>
        </p:nvSpPr>
        <p:spPr>
          <a:xfrm>
            <a:off x="2971800" y="327672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mpersa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6-1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1376640" y="3200400"/>
            <a:ext cx="6665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se underlining for words, letters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igns, and numbers referred to no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r their meaning but for their 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6-1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4"/>
          <p:cNvSpPr/>
          <p:nvPr/>
        </p:nvSpPr>
        <p:spPr>
          <a:xfrm>
            <a:off x="1889280" y="3168720"/>
            <a:ext cx="588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r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6-1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950040" y="3124080"/>
            <a:ext cx="747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o you use from or than with differen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6-1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4"/>
          <p:cNvSpPr/>
          <p:nvPr/>
        </p:nvSpPr>
        <p:spPr>
          <a:xfrm>
            <a:off x="3664080" y="3276720"/>
            <a:ext cx="106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ro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6-1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4"/>
          <p:cNvSpPr/>
          <p:nvPr/>
        </p:nvSpPr>
        <p:spPr>
          <a:xfrm>
            <a:off x="1406520" y="3124080"/>
            <a:ext cx="661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o you underline or use quot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r long works? For short work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6-1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4"/>
          <p:cNvSpPr/>
          <p:nvPr/>
        </p:nvSpPr>
        <p:spPr>
          <a:xfrm>
            <a:off x="2537280" y="3200400"/>
            <a:ext cx="424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nderline, Quot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6-1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4" name="TextBox 7"/>
          <p:cNvSpPr/>
          <p:nvPr/>
        </p:nvSpPr>
        <p:spPr>
          <a:xfrm>
            <a:off x="1371600" y="22860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 a female pet spaded or spaye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6-1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3818880" y="297180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pay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1-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1917360" y="3168720"/>
            <a:ext cx="498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ich is the correct form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lot or a lot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6-1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4"/>
          <p:cNvSpPr/>
          <p:nvPr/>
        </p:nvSpPr>
        <p:spPr>
          <a:xfrm>
            <a:off x="1915920" y="3168720"/>
            <a:ext cx="50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 do you use hange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6-1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4"/>
          <p:cNvSpPr/>
          <p:nvPr/>
        </p:nvSpPr>
        <p:spPr>
          <a:xfrm>
            <a:off x="1889280" y="3168720"/>
            <a:ext cx="542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 a life is tak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11-1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1482840" y="3200400"/>
            <a:ext cx="627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n you use real to replace ver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f not, what can you us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11-1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4"/>
          <p:cNvSpPr/>
          <p:nvPr/>
        </p:nvSpPr>
        <p:spPr>
          <a:xfrm>
            <a:off x="1917720" y="3168720"/>
            <a:ext cx="51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, use really or extremel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11-1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4"/>
          <p:cNvSpPr/>
          <p:nvPr/>
        </p:nvSpPr>
        <p:spPr>
          <a:xfrm>
            <a:off x="1917360" y="3168720"/>
            <a:ext cx="530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y do we use prescrip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ather than perscrption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11-1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4"/>
          <p:cNvSpPr/>
          <p:nvPr/>
        </p:nvSpPr>
        <p:spPr>
          <a:xfrm>
            <a:off x="1906560" y="3168720"/>
            <a:ext cx="459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e means “before”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cript means “ to write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11-1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4"/>
          <p:cNvSpPr/>
          <p:nvPr/>
        </p:nvSpPr>
        <p:spPr>
          <a:xfrm>
            <a:off x="1916280" y="3168720"/>
            <a:ext cx="501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 do you use a colo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4"/>
          <p:cNvSpPr/>
          <p:nvPr/>
        </p:nvSpPr>
        <p:spPr>
          <a:xfrm>
            <a:off x="1922400" y="3168720"/>
            <a:ext cx="6107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efore a list, when a list follow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verb or preposition, and afte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salutation in a lette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11-1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4"/>
          <p:cNvSpPr/>
          <p:nvPr/>
        </p:nvSpPr>
        <p:spPr>
          <a:xfrm>
            <a:off x="1923120" y="3168720"/>
            <a:ext cx="629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mportant book uses co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 separate verses and chapter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11-1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4"/>
          <p:cNvSpPr/>
          <p:nvPr/>
        </p:nvSpPr>
        <p:spPr>
          <a:xfrm>
            <a:off x="1889280" y="3168720"/>
            <a:ext cx="557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Bib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1-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"/>
          <p:cNvSpPr/>
          <p:nvPr/>
        </p:nvSpPr>
        <p:spPr>
          <a:xfrm>
            <a:off x="3956400" y="320040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lo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11-1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4"/>
          <p:cNvSpPr/>
          <p:nvPr/>
        </p:nvSpPr>
        <p:spPr>
          <a:xfrm>
            <a:off x="1917000" y="3168720"/>
            <a:ext cx="506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plural form of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.M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. Wom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. Freshm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4"/>
          <p:cNvSpPr/>
          <p:nvPr/>
        </p:nvSpPr>
        <p:spPr>
          <a:xfrm>
            <a:off x="1159200" y="3168720"/>
            <a:ext cx="3812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.M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.Wom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.Freshm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16-2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4"/>
          <p:cNvSpPr/>
          <p:nvPr/>
        </p:nvSpPr>
        <p:spPr>
          <a:xfrm>
            <a:off x="1901880" y="3168720"/>
            <a:ext cx="235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ersonnel =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ersonal =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16-2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4"/>
          <p:cNvSpPr/>
          <p:nvPr/>
        </p:nvSpPr>
        <p:spPr>
          <a:xfrm>
            <a:off x="1910160" y="3168720"/>
            <a:ext cx="37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mployees, priva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16-2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4"/>
          <p:cNvSpPr/>
          <p:nvPr/>
        </p:nvSpPr>
        <p:spPr>
          <a:xfrm>
            <a:off x="1911960" y="3168720"/>
            <a:ext cx="416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does a dash do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16-2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4"/>
          <p:cNvSpPr/>
          <p:nvPr/>
        </p:nvSpPr>
        <p:spPr>
          <a:xfrm>
            <a:off x="1917000" y="3168720"/>
            <a:ext cx="509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parates a word from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st of the sentenc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16-2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4"/>
          <p:cNvSpPr/>
          <p:nvPr/>
        </p:nvSpPr>
        <p:spPr>
          <a:xfrm>
            <a:off x="1914480" y="3168720"/>
            <a:ext cx="467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does a hyphen do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16-2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4"/>
          <p:cNvSpPr/>
          <p:nvPr/>
        </p:nvSpPr>
        <p:spPr>
          <a:xfrm>
            <a:off x="1909080" y="3168720"/>
            <a:ext cx="623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hyphen glues words together.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16-2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4"/>
          <p:cNvSpPr/>
          <p:nvPr/>
        </p:nvSpPr>
        <p:spPr>
          <a:xfrm>
            <a:off x="1894320" y="3168720"/>
            <a:ext cx="494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 this sentence correct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re are we meeting a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16-2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4"/>
          <p:cNvSpPr/>
          <p:nvPr/>
        </p:nvSpPr>
        <p:spPr>
          <a:xfrm>
            <a:off x="1529280" y="3200400"/>
            <a:ext cx="633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, because the at can be omitt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1-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4"/>
          <p:cNvSpPr/>
          <p:nvPr/>
        </p:nvSpPr>
        <p:spPr>
          <a:xfrm>
            <a:off x="1916640" y="3168720"/>
            <a:ext cx="515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ich is correct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gardless or Irregardles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16-2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4"/>
          <p:cNvSpPr/>
          <p:nvPr/>
        </p:nvSpPr>
        <p:spPr>
          <a:xfrm>
            <a:off x="1891440" y="3168720"/>
            <a:ext cx="3836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fine these word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lumni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lumna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lumnus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lumnae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16-2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4"/>
          <p:cNvSpPr/>
          <p:nvPr/>
        </p:nvSpPr>
        <p:spPr>
          <a:xfrm>
            <a:off x="1893240" y="3168720"/>
            <a:ext cx="6234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-plural for both men and women/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lural for just m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-single fema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-single ma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-plural fema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2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4"/>
          <p:cNvSpPr/>
          <p:nvPr/>
        </p:nvSpPr>
        <p:spPr>
          <a:xfrm>
            <a:off x="1893960" y="3168720"/>
            <a:ext cx="592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 person’s alma mate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2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4"/>
          <p:cNvSpPr/>
          <p:nvPr/>
        </p:nvSpPr>
        <p:spPr>
          <a:xfrm>
            <a:off x="1299600" y="3276720"/>
            <a:ext cx="639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re that person graduates fro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309960" y="2438280"/>
            <a:ext cx="8619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author wrote, “If one man kills another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t  murder, but if a hundred thousand men ki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other hundred thousand, it is considered 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ct of glory!?”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2" name="final_Q.wav" descr=""/>
          <p:cNvPicPr/>
          <p:nvPr/>
        </p:nvPicPr>
        <p:blipFill>
          <a:blip r:embed="rId1"/>
          <a:stretch/>
        </p:blipFill>
        <p:spPr>
          <a:xfrm>
            <a:off x="7467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" descr="m_button"/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1" fill="hold"/>
                                        <p:tgtEl>
                                          <p:spTgt spid="2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 Answe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1505520" y="2766960"/>
            <a:ext cx="4193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o is Tolsto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The book i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ingdom of Go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Picture 4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1-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1889280" y="3168720"/>
            <a:ext cx="573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gardles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1-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1314000" y="3200400"/>
            <a:ext cx="67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ould you mind (lending, loaning)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e the mone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1-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"/>
          <p:cNvSpPr/>
          <p:nvPr/>
        </p:nvSpPr>
        <p:spPr>
          <a:xfrm>
            <a:off x="3363120" y="3276720"/>
            <a:ext cx="170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nd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1-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4" name="TextBox 6"/>
          <p:cNvSpPr/>
          <p:nvPr/>
        </p:nvSpPr>
        <p:spPr>
          <a:xfrm>
            <a:off x="1295280" y="2514600"/>
            <a:ext cx="6782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spelling clue for the following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Surpris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Busin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Cemet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Separ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Conveni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1-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7" name="TextBox 6"/>
          <p:cNvSpPr/>
          <p:nvPr/>
        </p:nvSpPr>
        <p:spPr>
          <a:xfrm>
            <a:off x="2057400" y="2438280"/>
            <a:ext cx="5638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Surprise -has two r’s and two s’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Business –ride a bus if in busin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Cemetery- 3 e’s for eee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Separate- has a rat in 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Convenience- Latin word venio meaning “to come” Con means “ together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213017</cp:lastModifiedBy>
  <dcterms:modified xsi:type="dcterms:W3CDTF">2010-05-19T13:23:45Z</dcterms:modified>
  <cp:revision>22</cp:revision>
  <dc:subject/>
  <dc:title>Jeopardy</dc:title>
</cp:coreProperties>
</file>